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8513E2-69E7-473E-902F-2959A0F28E8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D58CEB-234D-4010-85D0-38177809137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442AC8-7C1B-449F-A730-6596C7E945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1D1A32-BC5A-4EB0-BE93-3C4C7F5BB18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8B4508-2451-4680-B4E0-2D942B5635F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9684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45720" y="4861080"/>
            <a:ext cx="5211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E4B-E319-4209-94C6-B6AB2E0D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708-4C5E-4F2B-A901-05193372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3F1-AB40-4452-A7B0-BCFBD64F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32F-9BCA-4834-B11B-4B842CB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0081-A638-41B6-A4CB-66B3FBE3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83B0-F092-47C2-82D3-89BAE9A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ACF-C09D-4185-8300-5A9EB727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8FFB-34B2-4570-9D45-BD9B8CA2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5FD-46C3-4896-B4A0-CB8BE79D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235-BE98-4616-99BA-A0FF29B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9A2-1AEA-4EB6-9F02-FE1414D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820-97FC-4B05-AA75-C21A7BDC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2C3-9578-433C-9E62-2D767E7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B045-AA0C-4513-92AA-F5D8A54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361-7CD4-4B1F-9067-91EB9D8C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EF2A-E7D0-4DD0-85A4-E87521A1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553A-EEAC-47DC-BC95-2FD71E08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E8C-3120-45D5-98F9-AA6082DC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54D-D8C0-41D3-A5A0-21C9FB4F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14B-7C4F-418C-90E0-CB2FCE8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508-5CF4-423D-8337-4B03D8A3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C34-E54C-4E95-88C7-3D0387A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320-9B79-4C09-8E66-C61153E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7AC-6A22-439D-B166-429709B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FF6-F9D3-4BE8-8FC7-67E4125AE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4C5D-7100-4F7A-B688-13FDE30A960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5" name="Picture 2" descr="https://upload.wikimedia.org/wikipedia/commons/thumb/3/3a/GraphDatabase_PropertyGraph.png/308px-GraphDatabase_PropertyGraph.png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Neo4j.jpg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178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79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3" name="Segnaposto contenuto 3" descr="aaa.tiff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88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and g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Group 217" descr=""/>
          <p:cNvPicPr/>
          <p:nvPr/>
        </p:nvPicPr>
        <p:blipFill>
          <a:blip r:embed="rId1"/>
          <a:stretch/>
        </p:blipFill>
        <p:spPr>
          <a:xfrm>
            <a:off x="828720" y="3067200"/>
            <a:ext cx="7705800" cy="72360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243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0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261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281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7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98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6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2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323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1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342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0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361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9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0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381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9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0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401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3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an we use simpler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py-detector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ple compressors: too simpl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324000" y="1857240"/>
            <a:ext cx="828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Move-to-Front  (MTF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freq-sorting approxima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aching strate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ompress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324000" y="4275000"/>
            <a:ext cx="8280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Run-Length-Encoding (RLE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AX compress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ve to Front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nsforms a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cha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equence into an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integer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quence, that can then b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ar-length co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21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art with the list of symbols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L=[a,b,c,d,…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each input symbo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the position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n L 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[&gt;=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v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the front of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spcBef>
                <a:spcPts val="550"/>
              </a:spcBef>
              <a:buClr>
                <a:srgbClr val="a50021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a000"/>
                </a:solidFill>
                <a:latin typeface="Lucida Sans"/>
              </a:rPr>
              <a:t>L=[a,b,c,l] and S = cabala  </a:t>
            </a:r>
            <a:r>
              <a:rPr b="0" lang="it-IT" sz="22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a000"/>
                </a:solidFill>
                <a:latin typeface="Lucida Sans"/>
              </a:rPr>
              <a:t> mtf(S) = 3 2 3 2 4 2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80240" indent="-48024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dynamic code, with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364000" y="4292640"/>
            <a:ext cx="3529080" cy="360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TF is 2-optim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4360" y="177336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et P(i) the probability that x(i) is accessed in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the optimal (static) list whose items x(i) are sorted by decreasing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= average access cost to the optimal 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= average access cost to the MTF 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Lucida Sans"/>
              </a:rPr>
              <a:t>THEO.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t is 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 ≤ 2 * E[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Lucida Sans"/>
              </a:rPr>
              <a:t>OBS.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MTF does not know the underlying P(), so its choice about L’s ordering could be disastrous (e.g. Take L sorted by increasing P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2" name="Picture 6" descr="index12.gif"/>
          <p:cNvPicPr/>
          <p:nvPr/>
        </p:nvPicPr>
        <p:blipFill>
          <a:blip r:embed="rId1"/>
          <a:stretch/>
        </p:blipFill>
        <p:spPr>
          <a:xfrm>
            <a:off x="10377360" y="7650000"/>
            <a:ext cx="63828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of: MTF is 2-optim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8920" y="162828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op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*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pos of x(i) in MTF] = E[elems that precede x(i) in MTF]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1 +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x(j) precedes x(i) in MTF] *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1 +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j) / (P(j)+P(i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Idea: P(j) = prob x(j) moves to the front (goo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	</a:t>
            </a: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(i) = prob x(i) moves to the front (ba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	</a:t>
            </a: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1-P(j)-P(i) = prob others move to the front (nul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[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mtf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 * E[pos of x(i) in MTF] =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 * (1 +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j&lt;&gt;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*P(j) / (P(j)+P(i)))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[simmetry &amp; ∑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Lucida Sans"/>
              </a:rPr>
              <a:t>j&lt;i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P(j) / (P(j)+P(i)) &lt; 1 * (i-1) terms 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≤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+ 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 (i-1) ≤  (2 * ∑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=1,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P(i) * i) 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5" name="Picture 6" descr="index12.gif"/>
          <p:cNvPicPr/>
          <p:nvPr/>
        </p:nvPicPr>
        <p:blipFill>
          <a:blip r:embed="rId1"/>
          <a:stretch/>
        </p:blipFill>
        <p:spPr>
          <a:xfrm>
            <a:off x="10377360" y="7650000"/>
            <a:ext cx="63828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 Length Encoding  (RL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a40508"/>
                </a:solidFill>
                <a:latin typeface="Comic Sans MS"/>
              </a:rPr>
              <a:t> spatial loc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very high, th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bbbaacccca =&gt; (a,1),(b,3),(a,2),(c,4),(a,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case of binary str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just numbers and one b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perti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dynamic code, with memo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and bzip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5170320" y="3065400"/>
            <a:ext cx="3353040" cy="2823480"/>
            <a:chOff x="5170320" y="3065400"/>
            <a:chExt cx="3353040" cy="2823480"/>
          </a:xfrm>
        </p:grpSpPr>
        <p:sp>
          <p:nvSpPr>
            <p:cNvPr id="431" name="Rectangle 3"/>
            <p:cNvSpPr/>
            <p:nvPr/>
          </p:nvSpPr>
          <p:spPr>
            <a:xfrm>
              <a:off x="5170320" y="396540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i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pi#miss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ppi#miss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ssippi#m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ppi#m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ssippi#m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5170320" y="30654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5170320" y="367812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i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170320" y="337176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773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The Burrows-Wheeler Transform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534960" y="163980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t us given a tex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 = mississippi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135576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i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1355760" y="2441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1355760" y="2746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355760" y="3051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1355760" y="395136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ppi#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pi#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i#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#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m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1355760" y="366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355760" y="3357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4" name="Group 16"/>
          <p:cNvGrpSpPr/>
          <p:nvPr/>
        </p:nvGrpSpPr>
        <p:grpSpPr>
          <a:xfrm>
            <a:off x="3523680" y="3432240"/>
            <a:ext cx="1453320" cy="685800"/>
            <a:chOff x="3523680" y="3432240"/>
            <a:chExt cx="1453320" cy="685800"/>
          </a:xfrm>
        </p:grpSpPr>
        <p:sp>
          <p:nvSpPr>
            <p:cNvPr id="445" name="AutoShape 17"/>
            <p:cNvSpPr/>
            <p:nvPr/>
          </p:nvSpPr>
          <p:spPr>
            <a:xfrm>
              <a:off x="3798720" y="373680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>
              <a:off x="3523680" y="34322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Sort the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19"/>
          <p:cNvGrpSpPr/>
          <p:nvPr/>
        </p:nvGrpSpPr>
        <p:grpSpPr>
          <a:xfrm>
            <a:off x="1284120" y="2147760"/>
            <a:ext cx="6934320" cy="3799080"/>
            <a:chOff x="1284120" y="2147760"/>
            <a:chExt cx="6934320" cy="3799080"/>
          </a:xfrm>
        </p:grpSpPr>
        <p:sp>
          <p:nvSpPr>
            <p:cNvPr id="448" name="Rectangle 20"/>
            <p:cNvSpPr/>
            <p:nvPr/>
          </p:nvSpPr>
          <p:spPr>
            <a:xfrm>
              <a:off x="5170320" y="21477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#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ssissip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Oval 21"/>
            <p:cNvSpPr/>
            <p:nvPr/>
          </p:nvSpPr>
          <p:spPr>
            <a:xfrm>
              <a:off x="1284120" y="5489640"/>
              <a:ext cx="221004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Line 22"/>
            <p:cNvSpPr/>
            <p:nvPr/>
          </p:nvSpPr>
          <p:spPr>
            <a:xfrm flipV="1">
              <a:off x="3494160" y="2441520"/>
              <a:ext cx="175248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1" name="Group 23"/>
          <p:cNvGrpSpPr/>
          <p:nvPr/>
        </p:nvGrpSpPr>
        <p:grpSpPr>
          <a:xfrm>
            <a:off x="1208160" y="2455920"/>
            <a:ext cx="7162560" cy="3186000"/>
            <a:chOff x="1208160" y="2455920"/>
            <a:chExt cx="7162560" cy="3186000"/>
          </a:xfrm>
        </p:grpSpPr>
        <p:sp>
          <p:nvSpPr>
            <p:cNvPr id="452" name="Rectangle 24"/>
            <p:cNvSpPr/>
            <p:nvPr/>
          </p:nvSpPr>
          <p:spPr>
            <a:xfrm>
              <a:off x="5170320" y="2455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si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Oval 25"/>
            <p:cNvSpPr/>
            <p:nvPr/>
          </p:nvSpPr>
          <p:spPr>
            <a:xfrm>
              <a:off x="1208160" y="518472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Line 26"/>
            <p:cNvSpPr/>
            <p:nvPr/>
          </p:nvSpPr>
          <p:spPr>
            <a:xfrm flipV="1">
              <a:off x="3417840" y="2746440"/>
              <a:ext cx="1828800" cy="26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5" name="Group 27"/>
          <p:cNvGrpSpPr/>
          <p:nvPr/>
        </p:nvGrpSpPr>
        <p:grpSpPr>
          <a:xfrm>
            <a:off x="1219320" y="2781360"/>
            <a:ext cx="7924680" cy="1890720"/>
            <a:chOff x="1219320" y="2781360"/>
            <a:chExt cx="7924680" cy="1890720"/>
          </a:xfrm>
        </p:grpSpPr>
        <p:sp>
          <p:nvSpPr>
            <p:cNvPr id="456" name="Rectangle 28"/>
            <p:cNvSpPr/>
            <p:nvPr/>
          </p:nvSpPr>
          <p:spPr>
            <a:xfrm>
              <a:off x="5181480" y="2781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Oval 29"/>
            <p:cNvSpPr/>
            <p:nvPr/>
          </p:nvSpPr>
          <p:spPr>
            <a:xfrm>
              <a:off x="1219320" y="421488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 flipV="1">
              <a:off x="3429000" y="3071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9" name="Rectangle 31"/>
          <p:cNvSpPr/>
          <p:nvPr/>
        </p:nvSpPr>
        <p:spPr>
          <a:xfrm>
            <a:off x="5182920" y="17557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32"/>
          <p:cNvSpPr/>
          <p:nvPr/>
        </p:nvSpPr>
        <p:spPr>
          <a:xfrm>
            <a:off x="7455960" y="1755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1" name="Group 33"/>
          <p:cNvGrpSpPr/>
          <p:nvPr/>
        </p:nvGrpSpPr>
        <p:grpSpPr>
          <a:xfrm>
            <a:off x="7380360" y="2060640"/>
            <a:ext cx="1468800" cy="3886200"/>
            <a:chOff x="7380360" y="2060640"/>
            <a:chExt cx="1468800" cy="3886200"/>
          </a:xfrm>
        </p:grpSpPr>
        <p:sp>
          <p:nvSpPr>
            <p:cNvPr id="462" name="Rectangle 34"/>
            <p:cNvSpPr/>
            <p:nvPr/>
          </p:nvSpPr>
          <p:spPr>
            <a:xfrm>
              <a:off x="7380360" y="2060640"/>
              <a:ext cx="457200" cy="3886200"/>
            </a:xfrm>
            <a:prstGeom prst="rect">
              <a:avLst/>
            </a:prstGeom>
            <a:noFill/>
            <a:ln w="31680">
              <a:solidFill>
                <a:srgbClr val="48f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Rectangle 35"/>
            <p:cNvSpPr/>
            <p:nvPr/>
          </p:nvSpPr>
          <p:spPr>
            <a:xfrm>
              <a:off x="847044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Rectangle 36"/>
            <p:cNvSpPr/>
            <p:nvPr/>
          </p:nvSpPr>
          <p:spPr>
            <a:xfrm>
              <a:off x="7380360" y="3681360"/>
              <a:ext cx="457200" cy="380880"/>
            </a:xfrm>
            <a:prstGeom prst="rect">
              <a:avLst/>
            </a:prstGeom>
            <a:noFill/>
            <a:ln w="22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5" name="AutoShape 37"/>
            <p:cNvSpPr/>
            <p:nvPr/>
          </p:nvSpPr>
          <p:spPr>
            <a:xfrm>
              <a:off x="7989840" y="3813120"/>
              <a:ext cx="380880" cy="533520"/>
            </a:xfrm>
            <a:prstGeom prst="leftRight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48f026"/>
                </a:gs>
                <a:gs pos="100000">
                  <a:srgbClr val="1a570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amous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7" name="Picture 4" descr="Picture1"/>
          <p:cNvPicPr/>
          <p:nvPr/>
        </p:nvPicPr>
        <p:blipFill>
          <a:blip r:embed="rId1"/>
          <a:srcRect l="10514" t="0" r="0" b="0"/>
          <a:stretch/>
        </p:blipFill>
        <p:spPr>
          <a:xfrm>
            <a:off x="539640" y="1628640"/>
            <a:ext cx="4896000" cy="51278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5"/>
          <p:cNvSpPr/>
          <p:nvPr/>
        </p:nvSpPr>
        <p:spPr>
          <a:xfrm>
            <a:off x="5634000" y="3500280"/>
            <a:ext cx="1440000" cy="20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u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long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9" name="Picture 4" descr="Picture1"/>
          <p:cNvPicPr/>
          <p:nvPr/>
        </p:nvPicPr>
        <p:blipFill>
          <a:blip r:embed="rId2"/>
          <a:srcRect l="0" t="0" r="88825" b="0"/>
          <a:stretch/>
        </p:blipFill>
        <p:spPr>
          <a:xfrm>
            <a:off x="7272360" y="1628640"/>
            <a:ext cx="6127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Lucida Sans"/>
              </a:rPr>
              <a:t>Compressing L seems promising.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1" name="Picture 3" descr="Picture1"/>
          <p:cNvPicPr/>
          <p:nvPr/>
        </p:nvPicPr>
        <p:blipFill>
          <a:blip r:embed="rId1"/>
          <a:stretch/>
        </p:blipFill>
        <p:spPr>
          <a:xfrm>
            <a:off x="541440" y="1511280"/>
            <a:ext cx="4244760" cy="458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4"/>
          <p:cNvSpPr/>
          <p:nvPr/>
        </p:nvSpPr>
        <p:spPr>
          <a:xfrm>
            <a:off x="5365800" y="2087640"/>
            <a:ext cx="3382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Key observati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 is locally homogeneou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5457960" y="3022560"/>
            <a:ext cx="3562200" cy="410760"/>
            <a:chOff x="5457960" y="3022560"/>
            <a:chExt cx="3562200" cy="410760"/>
          </a:xfrm>
        </p:grpSpPr>
        <p:sp>
          <p:nvSpPr>
            <p:cNvPr id="474" name="AutoShape 6"/>
            <p:cNvSpPr/>
            <p:nvPr/>
          </p:nvSpPr>
          <p:spPr>
            <a:xfrm>
              <a:off x="5457960" y="3022560"/>
              <a:ext cx="504360" cy="324360"/>
            </a:xfrm>
            <a:prstGeom prst="rightArrow">
              <a:avLst>
                <a:gd name="adj1" fmla="val 50000"/>
                <a:gd name="adj2" fmla="val 3887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 Box 7"/>
            <p:cNvSpPr/>
            <p:nvPr/>
          </p:nvSpPr>
          <p:spPr>
            <a:xfrm>
              <a:off x="5995800" y="303444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L is highly compressibl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6" name="Group 8"/>
          <p:cNvGrpSpPr/>
          <p:nvPr/>
        </p:nvGrpSpPr>
        <p:grpSpPr>
          <a:xfrm>
            <a:off x="5292720" y="4103640"/>
            <a:ext cx="3527280" cy="1752480"/>
            <a:chOff x="5292720" y="4103640"/>
            <a:chExt cx="3527280" cy="1752480"/>
          </a:xfrm>
        </p:grpSpPr>
        <p:sp>
          <p:nvSpPr>
            <p:cNvPr id="477" name="Rectangle 9"/>
            <p:cNvSpPr/>
            <p:nvPr/>
          </p:nvSpPr>
          <p:spPr>
            <a:xfrm>
              <a:off x="5292720" y="4103640"/>
              <a:ext cx="352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Algorithm Bzip :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Move-to-Front coding of 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5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un-Length coding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tatistical code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>
              <a:off x="5292720" y="4103640"/>
              <a:ext cx="3527280" cy="167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9" name="Rectangle 11"/>
          <p:cNvSpPr/>
          <p:nvPr/>
        </p:nvSpPr>
        <p:spPr>
          <a:xfrm>
            <a:off x="395280" y="6237360"/>
            <a:ext cx="749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zip vs. Gzip: 20% vs. 33%, but it is slower in (de)compression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Line 6"/>
          <p:cNvSpPr/>
          <p:nvPr/>
        </p:nvSpPr>
        <p:spPr>
          <a:xfrm>
            <a:off x="539640" y="3932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Line 11"/>
          <p:cNvSpPr/>
          <p:nvPr/>
        </p:nvSpPr>
        <p:spPr>
          <a:xfrm>
            <a:off x="539640" y="4508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12"/>
          <p:cNvSpPr/>
          <p:nvPr/>
        </p:nvSpPr>
        <p:spPr>
          <a:xfrm>
            <a:off x="611280" y="472428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3" name="Gruppo 3"/>
          <p:cNvGrpSpPr/>
          <p:nvPr/>
        </p:nvGrpSpPr>
        <p:grpSpPr>
          <a:xfrm>
            <a:off x="1008000" y="2133720"/>
            <a:ext cx="395280" cy="3887640"/>
            <a:chOff x="1008000" y="2133720"/>
            <a:chExt cx="395280" cy="3887640"/>
          </a:xfrm>
        </p:grpSpPr>
        <p:sp>
          <p:nvSpPr>
            <p:cNvPr id="484" name="Rectangle 7"/>
            <p:cNvSpPr/>
            <p:nvPr/>
          </p:nvSpPr>
          <p:spPr>
            <a:xfrm>
              <a:off x="1008000" y="2133720"/>
              <a:ext cx="395280" cy="179856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1008000" y="3932280"/>
              <a:ext cx="395280" cy="576000"/>
            </a:xfrm>
            <a:prstGeom prst="rect">
              <a:avLst/>
            </a:prstGeom>
            <a:solidFill>
              <a:srgbClr val="a3a3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1008000" y="4509360"/>
              <a:ext cx="395280" cy="216000"/>
            </a:xfrm>
            <a:prstGeom prst="rect">
              <a:avLst/>
            </a:prstGeom>
            <a:solidFill>
              <a:srgbClr val="ff7c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7" name="Rectangle 7"/>
            <p:cNvSpPr/>
            <p:nvPr/>
          </p:nvSpPr>
          <p:spPr>
            <a:xfrm>
              <a:off x="1008000" y="4726080"/>
              <a:ext cx="395280" cy="1295280"/>
            </a:xfrm>
            <a:prstGeom prst="rect">
              <a:avLst/>
            </a:prstGeom>
            <a:solidFill>
              <a:srgbClr val="00ab7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395280" y="1771560"/>
            <a:ext cx="327672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1150920" y="1862280"/>
            <a:ext cx="2286000" cy="4616640"/>
            <a:chOff x="1150920" y="1862280"/>
            <a:chExt cx="2286000" cy="4616640"/>
          </a:xfrm>
        </p:grpSpPr>
        <p:grpSp>
          <p:nvGrpSpPr>
            <p:cNvPr id="490" name="Group 4"/>
            <p:cNvGrpSpPr/>
            <p:nvPr/>
          </p:nvGrpSpPr>
          <p:grpSpPr>
            <a:xfrm>
              <a:off x="1150920" y="2112840"/>
              <a:ext cx="2286000" cy="4366080"/>
              <a:chOff x="1150920" y="2112840"/>
              <a:chExt cx="2286000" cy="4366080"/>
            </a:xfrm>
          </p:grpSpPr>
          <p:grpSp>
            <p:nvGrpSpPr>
              <p:cNvPr id="491" name="Group 5"/>
              <p:cNvGrpSpPr/>
              <p:nvPr/>
            </p:nvGrpSpPr>
            <p:grpSpPr>
              <a:xfrm>
                <a:off x="1150920" y="2112840"/>
                <a:ext cx="1828800" cy="374040"/>
                <a:chOff x="1150920" y="2112840"/>
                <a:chExt cx="1828800" cy="374040"/>
              </a:xfrm>
            </p:grpSpPr>
            <p:sp>
              <p:nvSpPr>
                <p:cNvPr id="492" name="AutoShape 6"/>
                <p:cNvSpPr/>
                <p:nvPr/>
              </p:nvSpPr>
              <p:spPr>
                <a:xfrm rot="5400000">
                  <a:off x="2027160" y="1534320"/>
                  <a:ext cx="75960" cy="182880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47520 h 1828800"/>
                    <a:gd name="textAreaBottom" fmla="*/ 178128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493" name="Text Box 7"/>
                <p:cNvSpPr/>
                <p:nvPr/>
              </p:nvSpPr>
              <p:spPr>
                <a:xfrm>
                  <a:off x="1496520" y="2112840"/>
                  <a:ext cx="122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ahoma"/>
                    </a:rPr>
                    <a:t>BWT 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494" name="Text Box 8"/>
              <p:cNvSpPr/>
              <p:nvPr/>
            </p:nvSpPr>
            <p:spPr>
              <a:xfrm>
                <a:off x="1150920" y="2563200"/>
                <a:ext cx="2286000" cy="39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#mississip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#mississi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ppi#miss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ppi#m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ssippi#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ississipp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i#miss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pi#miss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ppi#m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ssippi#m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ppi#m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ssippi#m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95" name="AutoShape 9"/>
            <p:cNvSpPr/>
            <p:nvPr/>
          </p:nvSpPr>
          <p:spPr>
            <a:xfrm rot="10800000">
              <a:off x="2141280" y="1862280"/>
              <a:ext cx="1219320" cy="22824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6" name="Rectangle 10"/>
            <p:cNvSpPr/>
            <p:nvPr/>
          </p:nvSpPr>
          <p:spPr>
            <a:xfrm>
              <a:off x="1150920" y="41479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7" name="Text Box 11"/>
          <p:cNvSpPr/>
          <p:nvPr/>
        </p:nvSpPr>
        <p:spPr>
          <a:xfrm>
            <a:off x="1150920" y="2563920"/>
            <a:ext cx="215892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81432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mpute the BW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9" name="Group 13"/>
          <p:cNvGrpSpPr/>
          <p:nvPr/>
        </p:nvGrpSpPr>
        <p:grpSpPr>
          <a:xfrm>
            <a:off x="3056040" y="2106720"/>
            <a:ext cx="395640" cy="4372560"/>
            <a:chOff x="3056040" y="2106720"/>
            <a:chExt cx="395640" cy="4372560"/>
          </a:xfrm>
        </p:grpSpPr>
        <p:sp>
          <p:nvSpPr>
            <p:cNvPr id="500" name="Text Box 14"/>
            <p:cNvSpPr/>
            <p:nvPr/>
          </p:nvSpPr>
          <p:spPr>
            <a:xfrm>
              <a:off x="3056040" y="2563560"/>
              <a:ext cx="380880" cy="39157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3056040" y="2563560"/>
              <a:ext cx="380880" cy="388584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2" name="Text Box 16"/>
            <p:cNvSpPr/>
            <p:nvPr/>
          </p:nvSpPr>
          <p:spPr>
            <a:xfrm>
              <a:off x="3136680" y="2106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mic Sans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3" name="Group 17"/>
          <p:cNvGrpSpPr/>
          <p:nvPr/>
        </p:nvGrpSpPr>
        <p:grpSpPr>
          <a:xfrm>
            <a:off x="541440" y="2106720"/>
            <a:ext cx="990360" cy="4347000"/>
            <a:chOff x="541440" y="2106720"/>
            <a:chExt cx="990360" cy="4347000"/>
          </a:xfrm>
        </p:grpSpPr>
        <p:sp>
          <p:nvSpPr>
            <p:cNvPr id="504" name="Text Box 18"/>
            <p:cNvSpPr/>
            <p:nvPr/>
          </p:nvSpPr>
          <p:spPr>
            <a:xfrm>
              <a:off x="541440" y="2563920"/>
              <a:ext cx="9903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05" name="Group 19"/>
            <p:cNvGrpSpPr/>
            <p:nvPr/>
          </p:nvGrpSpPr>
          <p:grpSpPr>
            <a:xfrm>
              <a:off x="541440" y="2106720"/>
              <a:ext cx="514800" cy="4343400"/>
              <a:chOff x="541440" y="2106720"/>
              <a:chExt cx="514800" cy="4343400"/>
            </a:xfrm>
          </p:grpSpPr>
          <p:sp>
            <p:nvSpPr>
              <p:cNvPr id="506" name="Rectangle 20"/>
              <p:cNvSpPr/>
              <p:nvPr/>
            </p:nvSpPr>
            <p:spPr>
              <a:xfrm>
                <a:off x="541440" y="2563920"/>
                <a:ext cx="45684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Text Box 21"/>
              <p:cNvSpPr/>
              <p:nvPr/>
            </p:nvSpPr>
            <p:spPr>
              <a:xfrm>
                <a:off x="572400" y="210672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508" name="AutoShape 22"/>
          <p:cNvSpPr/>
          <p:nvPr/>
        </p:nvSpPr>
        <p:spPr>
          <a:xfrm rot="10800000">
            <a:off x="617040" y="1877760"/>
            <a:ext cx="1219320" cy="2286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4319640" y="2637000"/>
            <a:ext cx="2773440" cy="576000"/>
          </a:xfrm>
          <a:prstGeom prst="wedgeRectCallout">
            <a:avLst>
              <a:gd name="adj1" fmla="val -80393"/>
              <a:gd name="adj2" fmla="val 841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[3] = T[ 8 - 1 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4269600" y="22050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Comic Sans MS"/>
              </a:rPr>
              <a:t>We said that: L[i] precedes F[i] in 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1" name="Group 25"/>
          <p:cNvGrpSpPr/>
          <p:nvPr/>
        </p:nvGrpSpPr>
        <p:grpSpPr>
          <a:xfrm>
            <a:off x="3973680" y="3760920"/>
            <a:ext cx="4717440" cy="503280"/>
            <a:chOff x="3973680" y="3760920"/>
            <a:chExt cx="4717440" cy="503280"/>
          </a:xfrm>
        </p:grpSpPr>
        <p:sp>
          <p:nvSpPr>
            <p:cNvPr id="512" name="Text Box 26"/>
            <p:cNvSpPr/>
            <p:nvPr/>
          </p:nvSpPr>
          <p:spPr>
            <a:xfrm>
              <a:off x="4140360" y="3832200"/>
              <a:ext cx="44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Given SA and T, we have L[i]  = T[SA[i]-1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3" name="Rectangle 27"/>
            <p:cNvSpPr/>
            <p:nvPr/>
          </p:nvSpPr>
          <p:spPr>
            <a:xfrm>
              <a:off x="3973680" y="3760920"/>
              <a:ext cx="4717440" cy="50328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4" name="Group 25"/>
          <p:cNvGrpSpPr/>
          <p:nvPr/>
        </p:nvGrpSpPr>
        <p:grpSpPr>
          <a:xfrm>
            <a:off x="3963960" y="4654440"/>
            <a:ext cx="4568400" cy="1150920"/>
            <a:chOff x="3963960" y="4654440"/>
            <a:chExt cx="4568400" cy="1150920"/>
          </a:xfrm>
        </p:grpSpPr>
        <p:sp>
          <p:nvSpPr>
            <p:cNvPr id="515" name="Text Box 26"/>
            <p:cNvSpPr/>
            <p:nvPr/>
          </p:nvSpPr>
          <p:spPr>
            <a:xfrm>
              <a:off x="4166640" y="4748040"/>
              <a:ext cx="4170600" cy="916920"/>
            </a:xfrm>
            <a:prstGeom prst="rect">
              <a:avLst/>
            </a:prstGeom>
            <a:noFill/>
            <a:ln w="9360">
              <a:solidFill>
                <a:srgbClr val="00a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This is one of the main reasons f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the number of pubblications spurre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7254"/>
                  </a:solidFill>
                  <a:latin typeface="Comic Sans MS"/>
                </a:rPr>
                <a:t>in ‘94-’10 on Suffix Array construction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3963960" y="4654440"/>
              <a:ext cx="4568400" cy="1150920"/>
            </a:xfrm>
            <a:prstGeom prst="rect">
              <a:avLst/>
            </a:prstGeom>
            <a:noFill/>
            <a:ln w="54000">
              <a:solidFill>
                <a:srgbClr val="00a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1378080" y="3060720"/>
            <a:ext cx="3352680" cy="2823480"/>
            <a:chOff x="1378080" y="3060720"/>
            <a:chExt cx="3352680" cy="2823480"/>
          </a:xfrm>
        </p:grpSpPr>
        <p:sp>
          <p:nvSpPr>
            <p:cNvPr id="518" name="Rectangle 3"/>
            <p:cNvSpPr/>
            <p:nvPr/>
          </p:nvSpPr>
          <p:spPr>
            <a:xfrm>
              <a:off x="1378080" y="3960720"/>
              <a:ext cx="327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1378080" y="306072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Rectangle 5"/>
            <p:cNvSpPr/>
            <p:nvPr/>
          </p:nvSpPr>
          <p:spPr>
            <a:xfrm>
              <a:off x="1378080" y="367344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Rectangle 6"/>
            <p:cNvSpPr/>
            <p:nvPr/>
          </p:nvSpPr>
          <p:spPr>
            <a:xfrm>
              <a:off x="1378080" y="33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2" name="Rectangle 7"/>
          <p:cNvSpPr/>
          <p:nvPr/>
        </p:nvSpPr>
        <p:spPr>
          <a:xfrm>
            <a:off x="1346040" y="2114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346040" y="24224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1346040" y="27273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1358640" y="1722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3631680" y="17226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7" name="Group 12"/>
          <p:cNvGrpSpPr/>
          <p:nvPr/>
        </p:nvGrpSpPr>
        <p:grpSpPr>
          <a:xfrm>
            <a:off x="3683160" y="4286160"/>
            <a:ext cx="4162680" cy="1295280"/>
            <a:chOff x="3683160" y="4286160"/>
            <a:chExt cx="4162680" cy="1295280"/>
          </a:xfrm>
        </p:grpSpPr>
        <p:grpSp>
          <p:nvGrpSpPr>
            <p:cNvPr id="528" name="Group 13"/>
            <p:cNvGrpSpPr/>
            <p:nvPr/>
          </p:nvGrpSpPr>
          <p:grpSpPr>
            <a:xfrm>
              <a:off x="4902480" y="4362480"/>
              <a:ext cx="2943360" cy="337320"/>
              <a:chOff x="4902480" y="4362480"/>
              <a:chExt cx="2943360" cy="337320"/>
            </a:xfrm>
          </p:grpSpPr>
          <p:sp>
            <p:nvSpPr>
              <p:cNvPr id="529" name="AutoShape 14"/>
              <p:cNvSpPr/>
              <p:nvPr/>
            </p:nvSpPr>
            <p:spPr>
              <a:xfrm>
                <a:off x="4902480" y="439092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17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0" name="Rectangle 15"/>
              <p:cNvSpPr/>
              <p:nvPr/>
            </p:nvSpPr>
            <p:spPr>
              <a:xfrm>
                <a:off x="5359320" y="4362480"/>
                <a:ext cx="24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Take two equal L’s chars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1" name="Group 16"/>
            <p:cNvGrpSpPr/>
            <p:nvPr/>
          </p:nvGrpSpPr>
          <p:grpSpPr>
            <a:xfrm>
              <a:off x="3683160" y="4286160"/>
              <a:ext cx="304920" cy="1295280"/>
              <a:chOff x="3683160" y="4286160"/>
              <a:chExt cx="304920" cy="1295280"/>
            </a:xfrm>
          </p:grpSpPr>
          <p:sp>
            <p:nvSpPr>
              <p:cNvPr id="532" name="Oval 17"/>
              <p:cNvSpPr/>
              <p:nvPr/>
            </p:nvSpPr>
            <p:spPr>
              <a:xfrm>
                <a:off x="3683160" y="42861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3683160" y="52005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534" name="Group 19"/>
          <p:cNvGrpSpPr/>
          <p:nvPr/>
        </p:nvGrpSpPr>
        <p:grpSpPr>
          <a:xfrm>
            <a:off x="4699080" y="3565440"/>
            <a:ext cx="3962160" cy="762120"/>
            <a:chOff x="4699080" y="3565440"/>
            <a:chExt cx="3962160" cy="762120"/>
          </a:xfrm>
        </p:grpSpPr>
        <p:sp>
          <p:nvSpPr>
            <p:cNvPr id="535" name="Rectangle 20"/>
            <p:cNvSpPr/>
            <p:nvPr/>
          </p:nvSpPr>
          <p:spPr>
            <a:xfrm>
              <a:off x="4699080" y="3565440"/>
              <a:ext cx="396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Can we map L’s chars onto F’s chars ?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Rectangle 21"/>
            <p:cNvSpPr/>
            <p:nvPr/>
          </p:nvSpPr>
          <p:spPr>
            <a:xfrm>
              <a:off x="4699080" y="3946680"/>
              <a:ext cx="396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 Need to distinguish</a:t>
              </a:r>
              <a:r>
                <a:rPr b="0" lang="it-IT" sz="1600" spc="-1" strike="noStrike">
                  <a:solidFill>
                    <a:srgbClr val="5c37fb"/>
                  </a:solidFill>
                  <a:latin typeface="Comic Sans MS"/>
                </a:rPr>
                <a:t> </a:t>
              </a: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equal chars</a:t>
              </a: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7" name="Group 22"/>
          <p:cNvGrpSpPr/>
          <p:nvPr/>
        </p:nvGrpSpPr>
        <p:grpSpPr>
          <a:xfrm>
            <a:off x="4906800" y="4718160"/>
            <a:ext cx="3298320" cy="337320"/>
            <a:chOff x="4906800" y="4718160"/>
            <a:chExt cx="3298320" cy="337320"/>
          </a:xfrm>
        </p:grpSpPr>
        <p:sp>
          <p:nvSpPr>
            <p:cNvPr id="538" name="AutoShape 23"/>
            <p:cNvSpPr/>
            <p:nvPr/>
          </p:nvSpPr>
          <p:spPr>
            <a:xfrm>
              <a:off x="4906800" y="47469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17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Rectangle 24"/>
            <p:cNvSpPr/>
            <p:nvPr/>
          </p:nvSpPr>
          <p:spPr>
            <a:xfrm>
              <a:off x="5387760" y="4718160"/>
              <a:ext cx="28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Rotate rightward their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0" name="Group 25"/>
          <p:cNvGrpSpPr/>
          <p:nvPr/>
        </p:nvGrpSpPr>
        <p:grpSpPr>
          <a:xfrm>
            <a:off x="1346040" y="4303800"/>
            <a:ext cx="2209680" cy="1211040"/>
            <a:chOff x="1346040" y="4303800"/>
            <a:chExt cx="2209680" cy="1211040"/>
          </a:xfrm>
        </p:grpSpPr>
        <p:sp>
          <p:nvSpPr>
            <p:cNvPr id="541" name="Rectangle 26"/>
            <p:cNvSpPr/>
            <p:nvPr/>
          </p:nvSpPr>
          <p:spPr>
            <a:xfrm>
              <a:off x="1346040" y="4303800"/>
              <a:ext cx="2209680" cy="3045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Rectangle 27"/>
            <p:cNvSpPr/>
            <p:nvPr/>
          </p:nvSpPr>
          <p:spPr>
            <a:xfrm>
              <a:off x="1346040" y="5209920"/>
              <a:ext cx="22096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3" name="AutoShape 28"/>
          <p:cNvSpPr/>
          <p:nvPr/>
        </p:nvSpPr>
        <p:spPr>
          <a:xfrm rot="16632600">
            <a:off x="87840" y="3218040"/>
            <a:ext cx="1830600" cy="540000"/>
          </a:xfrm>
          <a:custGeom>
            <a:avLst/>
            <a:gdLst>
              <a:gd name="textAreaLeft" fmla="*/ 385560 w 1830600"/>
              <a:gd name="textAreaRight" fmla="*/ 1167840 w 183060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0" hR="21600" stAng="10800000" swAng="5400000"/>
                <a:lnTo>
                  <a:pt x="9228" y="0"/>
                </a:lnTo>
                <a:arcTo wR="9100" hR="21600" stAng="-5400000" swAng="4154172"/>
                <a:lnTo>
                  <a:pt x="21486" y="18193"/>
                </a:lnTo>
                <a:lnTo>
                  <a:pt x="18264" y="21600"/>
                </a:lnTo>
                <a:lnTo>
                  <a:pt x="14814" y="18193"/>
                </a:lnTo>
                <a:lnTo>
                  <a:pt x="18086" y="18193"/>
                </a:lnTo>
                <a:arcTo wR="9100" hR="21600" stAng="-1245828" swAng="-4143985"/>
                <a:lnTo>
                  <a:pt x="9164" y="1"/>
                </a:lnTo>
                <a:arcTo wR="910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100" hR="21600" stAng="10800000" swAng="5400000"/>
                <a:lnTo>
                  <a:pt x="9100" y="0"/>
                </a:lnTo>
                <a:arcTo wR="9100" hR="21600" stAng="-5400000" swAng="10186"/>
                <a:lnTo>
                  <a:pt x="9164" y="1"/>
                </a:lnTo>
                <a:arcTo wR="9100" hR="21600" stAng="-5410186" swAng="-5389814"/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AutoShape 29"/>
          <p:cNvSpPr/>
          <p:nvPr/>
        </p:nvSpPr>
        <p:spPr>
          <a:xfrm rot="16441800">
            <a:off x="-249120" y="3869640"/>
            <a:ext cx="2514600" cy="533520"/>
          </a:xfrm>
          <a:custGeom>
            <a:avLst/>
            <a:gdLst>
              <a:gd name="textAreaLeft" fmla="*/ 537840 w 2514600"/>
              <a:gd name="textAreaRight" fmla="*/ 1629000 w 25146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4" hR="21600" stAng="10800000" swAng="5400000"/>
                <a:lnTo>
                  <a:pt x="9372" y="0"/>
                </a:lnTo>
                <a:arcTo wR="9244" hR="21600" stAng="-5400000" swAng="3587502"/>
                <a:lnTo>
                  <a:pt x="21326" y="16378"/>
                </a:lnTo>
                <a:lnTo>
                  <a:pt x="18551" y="21600"/>
                </a:lnTo>
                <a:lnTo>
                  <a:pt x="15228" y="16378"/>
                </a:lnTo>
                <a:lnTo>
                  <a:pt x="18213" y="16378"/>
                </a:lnTo>
                <a:arcTo wR="9244" hR="21600" stAng="-1812498" swAng="-3577316"/>
                <a:lnTo>
                  <a:pt x="9308" y="1"/>
                </a:lnTo>
                <a:arcTo wR="9244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244" hR="21600" stAng="10800000" swAng="5400000"/>
                <a:lnTo>
                  <a:pt x="9244" y="0"/>
                </a:lnTo>
                <a:arcTo wR="9244" hR="21600" stAng="-5400000" swAng="10186"/>
                <a:lnTo>
                  <a:pt x="9308" y="1"/>
                </a:lnTo>
                <a:arcTo wR="9244" hR="21600" stAng="-5410186" swAng="-5389814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5" name="Group 30"/>
          <p:cNvGrpSpPr/>
          <p:nvPr/>
        </p:nvGrpSpPr>
        <p:grpSpPr>
          <a:xfrm>
            <a:off x="5003640" y="5013360"/>
            <a:ext cx="2684880" cy="565920"/>
            <a:chOff x="5003640" y="5013360"/>
            <a:chExt cx="2684880" cy="565920"/>
          </a:xfrm>
        </p:grpSpPr>
        <p:sp>
          <p:nvSpPr>
            <p:cNvPr id="546" name="Rectangle 31"/>
            <p:cNvSpPr/>
            <p:nvPr/>
          </p:nvSpPr>
          <p:spPr>
            <a:xfrm>
              <a:off x="5473080" y="5241960"/>
              <a:ext cx="221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Comic Sans MS"/>
                </a:rPr>
                <a:t>Same relative order !!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AutoShape 32"/>
            <p:cNvSpPr/>
            <p:nvPr/>
          </p:nvSpPr>
          <p:spPr>
            <a:xfrm rot="5400000">
              <a:off x="4965480" y="5051520"/>
              <a:ext cx="457200" cy="380880"/>
            </a:xfrm>
            <a:custGeom>
              <a:avLst/>
              <a:gdLst>
                <a:gd name="textAreaLeft" fmla="*/ 0 w 457200"/>
                <a:gd name="textAreaRight" fmla="*/ 392400 w 457200"/>
                <a:gd name="textAreaTop" fmla="*/ 32688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13" y="0"/>
                  </a:moveTo>
                  <a:lnTo>
                    <a:pt x="12825" y="7200"/>
                  </a:lnTo>
                  <a:lnTo>
                    <a:pt x="15911" y="7200"/>
                  </a:lnTo>
                  <a:lnTo>
                    <a:pt x="15911" y="18563"/>
                  </a:lnTo>
                  <a:lnTo>
                    <a:pt x="0" y="18563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213" y="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8" name="Rectangle 33"/>
          <p:cNvSpPr/>
          <p:nvPr/>
        </p:nvSpPr>
        <p:spPr>
          <a:xfrm>
            <a:off x="1809720" y="2125800"/>
            <a:ext cx="1655640" cy="367164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Text Box 34"/>
          <p:cNvSpPr/>
          <p:nvPr/>
        </p:nvSpPr>
        <p:spPr>
          <a:xfrm>
            <a:off x="1784880" y="1838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Rectangle 35"/>
          <p:cNvSpPr/>
          <p:nvPr/>
        </p:nvSpPr>
        <p:spPr>
          <a:xfrm>
            <a:off x="1835280" y="2133720"/>
            <a:ext cx="1655640" cy="3671640"/>
          </a:xfrm>
          <a:prstGeom prst="rect">
            <a:avLst/>
          </a:prstGeom>
          <a:solidFill>
            <a:srgbClr val="969696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AutoShape 36"/>
          <p:cNvSpPr/>
          <p:nvPr/>
        </p:nvSpPr>
        <p:spPr>
          <a:xfrm rot="21020400">
            <a:off x="1593720" y="2414160"/>
            <a:ext cx="2089440" cy="71640"/>
          </a:xfrm>
          <a:prstGeom prst="leftArrow">
            <a:avLst>
              <a:gd name="adj1" fmla="val 50000"/>
              <a:gd name="adj2" fmla="val 729146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AutoShape 37"/>
          <p:cNvSpPr/>
          <p:nvPr/>
        </p:nvSpPr>
        <p:spPr>
          <a:xfrm flipV="1" rot="1995600">
            <a:off x="1389240" y="3596760"/>
            <a:ext cx="2593800" cy="71640"/>
          </a:xfrm>
          <a:prstGeom prst="leftArrow">
            <a:avLst>
              <a:gd name="adj1" fmla="val 50000"/>
              <a:gd name="adj2" fmla="val 905151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AutoShape 38"/>
          <p:cNvSpPr/>
          <p:nvPr/>
        </p:nvSpPr>
        <p:spPr>
          <a:xfrm flipV="1" rot="2584800">
            <a:off x="1300320" y="4586040"/>
            <a:ext cx="2808000" cy="71280"/>
          </a:xfrm>
          <a:prstGeom prst="leftArrow">
            <a:avLst>
              <a:gd name="adj1" fmla="val 50000"/>
              <a:gd name="adj2" fmla="val 98484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AutoShape 39"/>
          <p:cNvSpPr/>
          <p:nvPr/>
        </p:nvSpPr>
        <p:spPr>
          <a:xfrm flipV="1" rot="2584800">
            <a:off x="1306440" y="4285440"/>
            <a:ext cx="2772000" cy="69840"/>
          </a:xfrm>
          <a:prstGeom prst="leftArrow">
            <a:avLst>
              <a:gd name="adj1" fmla="val 50000"/>
              <a:gd name="adj2" fmla="val 99226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1280" y="716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useful tool:  L </a:t>
            </a:r>
            <a:r>
              <a:rPr b="0" lang="it-IT" sz="31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 F mapp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6" name="Group 25"/>
          <p:cNvGrpSpPr/>
          <p:nvPr/>
        </p:nvGrpSpPr>
        <p:grpSpPr>
          <a:xfrm>
            <a:off x="1549440" y="6093000"/>
            <a:ext cx="7100640" cy="505440"/>
            <a:chOff x="1549440" y="6093000"/>
            <a:chExt cx="7100640" cy="505440"/>
          </a:xfrm>
        </p:grpSpPr>
        <p:sp>
          <p:nvSpPr>
            <p:cNvPr id="557" name="Text Box 26"/>
            <p:cNvSpPr/>
            <p:nvPr/>
          </p:nvSpPr>
          <p:spPr>
            <a:xfrm>
              <a:off x="1747440" y="6192720"/>
              <a:ext cx="6686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Rank</a:t>
              </a:r>
              <a:r>
                <a:rPr b="0" lang="it-IT" sz="1800" spc="-1" strike="noStrike" baseline="-25000">
                  <a:solidFill>
                    <a:srgbClr val="000099"/>
                  </a:solidFill>
                  <a:latin typeface="Comic Sans MS"/>
                </a:rPr>
                <a:t>char</a:t>
              </a: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(pos) and Select</a:t>
              </a:r>
              <a:r>
                <a:rPr b="0" lang="it-IT" sz="1800" spc="-1" strike="noStrike" baseline="-25000">
                  <a:solidFill>
                    <a:srgbClr val="000099"/>
                  </a:solidFill>
                  <a:latin typeface="Comic Sans MS"/>
                </a:rPr>
                <a:t>char</a:t>
              </a: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(pos) are key operations nowaday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Rectangle 27"/>
            <p:cNvSpPr/>
            <p:nvPr/>
          </p:nvSpPr>
          <p:spPr>
            <a:xfrm>
              <a:off x="1549440" y="6093000"/>
              <a:ext cx="7100640" cy="50292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1371600" y="1981080"/>
            <a:ext cx="4733280" cy="2064240"/>
            <a:chOff x="1371600" y="1981080"/>
            <a:chExt cx="4733280" cy="2064240"/>
          </a:xfrm>
        </p:grpSpPr>
        <p:sp>
          <p:nvSpPr>
            <p:cNvPr id="560" name="Oval 3"/>
            <p:cNvSpPr/>
            <p:nvPr/>
          </p:nvSpPr>
          <p:spPr>
            <a:xfrm>
              <a:off x="1371600" y="1981080"/>
              <a:ext cx="304920" cy="381240"/>
            </a:xfrm>
            <a:prstGeom prst="ellipse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Text Box 4"/>
            <p:cNvSpPr/>
            <p:nvPr/>
          </p:nvSpPr>
          <p:spPr>
            <a:xfrm>
              <a:off x="4418280" y="364644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....         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2" name="Rectangle 5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371600" y="2286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4" name="Group 7"/>
          <p:cNvGrpSpPr/>
          <p:nvPr/>
        </p:nvGrpSpPr>
        <p:grpSpPr>
          <a:xfrm>
            <a:off x="1403280" y="2924280"/>
            <a:ext cx="3353040" cy="2823480"/>
            <a:chOff x="1403280" y="2924280"/>
            <a:chExt cx="3353040" cy="2823480"/>
          </a:xfrm>
        </p:grpSpPr>
        <p:sp>
          <p:nvSpPr>
            <p:cNvPr id="565" name="Rectangle 8"/>
            <p:cNvSpPr/>
            <p:nvPr/>
          </p:nvSpPr>
          <p:spPr>
            <a:xfrm>
              <a:off x="1403280" y="382428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Rectangle 9"/>
            <p:cNvSpPr/>
            <p:nvPr/>
          </p:nvSpPr>
          <p:spPr>
            <a:xfrm>
              <a:off x="1403280" y="2924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Rectangle 10"/>
            <p:cNvSpPr/>
            <p:nvPr/>
          </p:nvSpPr>
          <p:spPr>
            <a:xfrm>
              <a:off x="1403280" y="353700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Rectangle 11"/>
            <p:cNvSpPr/>
            <p:nvPr/>
          </p:nvSpPr>
          <p:spPr>
            <a:xfrm>
              <a:off x="1403280" y="323064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WT is invertib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1371600" y="1978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1371600" y="2590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1383840" y="1585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3657240" y="15858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1810080" y="1701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4147560" y="1989000"/>
            <a:ext cx="4744800" cy="1172880"/>
            <a:chOff x="4147560" y="1989000"/>
            <a:chExt cx="4744800" cy="1172880"/>
          </a:xfrm>
        </p:grpSpPr>
        <p:sp>
          <p:nvSpPr>
            <p:cNvPr id="577" name="Rectangle 20"/>
            <p:cNvSpPr/>
            <p:nvPr/>
          </p:nvSpPr>
          <p:spPr>
            <a:xfrm>
              <a:off x="4543560" y="2349360"/>
              <a:ext cx="434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. LF-array maps L’s to F’s char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Rectangle 21"/>
            <p:cNvSpPr/>
            <p:nvPr/>
          </p:nvSpPr>
          <p:spPr>
            <a:xfrm>
              <a:off x="4543560" y="2781000"/>
              <a:ext cx="4146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. L[ i ]  precedes F[ i ] in T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Rectangle 22"/>
            <p:cNvSpPr/>
            <p:nvPr/>
          </p:nvSpPr>
          <p:spPr>
            <a:xfrm>
              <a:off x="4147560" y="198900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wo key properties: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0" name="Rectangle 23"/>
          <p:cNvSpPr/>
          <p:nvPr/>
        </p:nvSpPr>
        <p:spPr>
          <a:xfrm>
            <a:off x="4231800" y="33577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Comic Sans MS"/>
              </a:rPr>
              <a:t>Reconstruct T backward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Oval 24"/>
          <p:cNvSpPr/>
          <p:nvPr/>
        </p:nvSpPr>
        <p:spPr>
          <a:xfrm>
            <a:off x="1373040" y="2276640"/>
            <a:ext cx="304920" cy="3808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2" name="Group 25"/>
          <p:cNvGrpSpPr/>
          <p:nvPr/>
        </p:nvGrpSpPr>
        <p:grpSpPr>
          <a:xfrm>
            <a:off x="3635280" y="1989000"/>
            <a:ext cx="2260800" cy="2046960"/>
            <a:chOff x="3635280" y="1989000"/>
            <a:chExt cx="2260800" cy="2046960"/>
          </a:xfrm>
        </p:grpSpPr>
        <p:sp>
          <p:nvSpPr>
            <p:cNvPr id="583" name="Oval 26"/>
            <p:cNvSpPr/>
            <p:nvPr/>
          </p:nvSpPr>
          <p:spPr>
            <a:xfrm>
              <a:off x="3635280" y="198900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Rectangle 27"/>
            <p:cNvSpPr/>
            <p:nvPr/>
          </p:nvSpPr>
          <p:spPr>
            <a:xfrm>
              <a:off x="5649840" y="363708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5c37fb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85" name="Group 28"/>
          <p:cNvGrpSpPr/>
          <p:nvPr/>
        </p:nvGrpSpPr>
        <p:grpSpPr>
          <a:xfrm>
            <a:off x="3635280" y="2276640"/>
            <a:ext cx="2204280" cy="1759320"/>
            <a:chOff x="3635280" y="2276640"/>
            <a:chExt cx="2204280" cy="1759320"/>
          </a:xfrm>
        </p:grpSpPr>
        <p:sp>
          <p:nvSpPr>
            <p:cNvPr id="586" name="Oval 29"/>
            <p:cNvSpPr/>
            <p:nvPr/>
          </p:nvSpPr>
          <p:spPr>
            <a:xfrm>
              <a:off x="3635280" y="2276640"/>
              <a:ext cx="304920" cy="38088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Rectangle 30"/>
            <p:cNvSpPr/>
            <p:nvPr/>
          </p:nvSpPr>
          <p:spPr>
            <a:xfrm>
              <a:off x="550188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8" name="Oval 31"/>
          <p:cNvSpPr/>
          <p:nvPr/>
        </p:nvSpPr>
        <p:spPr>
          <a:xfrm>
            <a:off x="1403280" y="3860640"/>
            <a:ext cx="304920" cy="3812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9" name="Group 32"/>
          <p:cNvGrpSpPr/>
          <p:nvPr/>
        </p:nvGrpSpPr>
        <p:grpSpPr>
          <a:xfrm>
            <a:off x="3708360" y="3637080"/>
            <a:ext cx="1986480" cy="604800"/>
            <a:chOff x="3708360" y="3637080"/>
            <a:chExt cx="1986480" cy="604800"/>
          </a:xfrm>
        </p:grpSpPr>
        <p:sp>
          <p:nvSpPr>
            <p:cNvPr id="590" name="Oval 33"/>
            <p:cNvSpPr/>
            <p:nvPr/>
          </p:nvSpPr>
          <p:spPr>
            <a:xfrm>
              <a:off x="3708360" y="386064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1" name="Rectangle 34"/>
            <p:cNvSpPr/>
            <p:nvPr/>
          </p:nvSpPr>
          <p:spPr>
            <a:xfrm>
              <a:off x="535716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2" name="Oval 35"/>
          <p:cNvSpPr/>
          <p:nvPr/>
        </p:nvSpPr>
        <p:spPr>
          <a:xfrm>
            <a:off x="1403280" y="4149720"/>
            <a:ext cx="304920" cy="380880"/>
          </a:xfrm>
          <a:prstGeom prst="ellipse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3" name="Group 36"/>
          <p:cNvGrpSpPr/>
          <p:nvPr/>
        </p:nvGrpSpPr>
        <p:grpSpPr>
          <a:xfrm>
            <a:off x="3708360" y="3659040"/>
            <a:ext cx="1811520" cy="871560"/>
            <a:chOff x="3708360" y="3659040"/>
            <a:chExt cx="1811520" cy="871560"/>
          </a:xfrm>
        </p:grpSpPr>
        <p:sp>
          <p:nvSpPr>
            <p:cNvPr id="594" name="Rectangle 37"/>
            <p:cNvSpPr/>
            <p:nvPr/>
          </p:nvSpPr>
          <p:spPr>
            <a:xfrm>
              <a:off x="5273640" y="36590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5" name="Oval 38"/>
            <p:cNvSpPr/>
            <p:nvPr/>
          </p:nvSpPr>
          <p:spPr>
            <a:xfrm>
              <a:off x="3708360" y="4149720"/>
              <a:ext cx="304920" cy="380880"/>
            </a:xfrm>
            <a:prstGeom prst="ellipse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6" name="Rectangle 39"/>
          <p:cNvSpPr/>
          <p:nvPr/>
        </p:nvSpPr>
        <p:spPr>
          <a:xfrm>
            <a:off x="1332000" y="1989000"/>
            <a:ext cx="503280" cy="36720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Rettangolo arrotondato 9"/>
          <p:cNvSpPr/>
          <p:nvPr/>
        </p:nvSpPr>
        <p:spPr>
          <a:xfrm>
            <a:off x="2895480" y="5877000"/>
            <a:ext cx="6208920" cy="720720"/>
          </a:xfrm>
          <a:prstGeom prst="roundRect">
            <a:avLst>
              <a:gd name="adj" fmla="val 16667"/>
            </a:avLst>
          </a:prstGeom>
          <a:solidFill>
            <a:srgbClr val="00ab7e"/>
          </a:solidFill>
          <a:ln w="9360">
            <a:solidFill>
              <a:srgbClr val="00a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everal issues about efficiency in time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2879640" y="4221000"/>
            <a:ext cx="432000" cy="43200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155600" y="422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LE1 =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376360" y="3429000"/>
            <a:ext cx="1008360" cy="43164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n en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634320" y="21286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 = mississippimississippimississipp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621720" y="270504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 = ipppssssssmmmii</a:t>
            </a:r>
            <a:r>
              <a:rPr b="0" lang="it-IT" sz="2400" spc="-1" strike="noStrike">
                <a:solidFill>
                  <a:srgbClr val="ff3300"/>
                </a:solidFill>
                <a:latin typeface="Lucida Sans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ppiiissssssiiiii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880920" y="3425760"/>
            <a:ext cx="71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131141111141141     4112114111112111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5" name="Group 9"/>
          <p:cNvGrpSpPr/>
          <p:nvPr/>
        </p:nvGrpSpPr>
        <p:grpSpPr>
          <a:xfrm>
            <a:off x="6372360" y="2128680"/>
            <a:ext cx="2700000" cy="1223640"/>
            <a:chOff x="6372360" y="2128680"/>
            <a:chExt cx="2700000" cy="1223640"/>
          </a:xfrm>
        </p:grpSpPr>
        <p:sp>
          <p:nvSpPr>
            <p:cNvPr id="606" name="AutoShape 10"/>
            <p:cNvSpPr/>
            <p:nvPr/>
          </p:nvSpPr>
          <p:spPr>
            <a:xfrm>
              <a:off x="6372360" y="2128680"/>
              <a:ext cx="2700000" cy="122364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7" name="Text Box 11"/>
            <p:cNvSpPr/>
            <p:nvPr/>
          </p:nvSpPr>
          <p:spPr>
            <a:xfrm>
              <a:off x="6825600" y="279936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tf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= </a:t>
              </a:r>
              <a:r>
                <a:rPr b="0" lang="it-IT" sz="2000" spc="-1" strike="noStrike">
                  <a:solidFill>
                    <a:srgbClr val="000099"/>
                  </a:solidFill>
                  <a:latin typeface="Lucida Sans"/>
                </a:rPr>
                <a:t>[i,m,p,s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Text Box 12"/>
            <p:cNvSpPr/>
            <p:nvPr/>
          </p:nvSpPr>
          <p:spPr>
            <a:xfrm>
              <a:off x="6849360" y="23022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# at 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09" name="Text Box 13"/>
          <p:cNvSpPr/>
          <p:nvPr/>
        </p:nvSpPr>
        <p:spPr>
          <a:xfrm>
            <a:off x="613800" y="5556240"/>
            <a:ext cx="79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zip2-output =     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original Mtf-list (i,m,p,s) [also 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atistical code for 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+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Line 15"/>
          <p:cNvSpPr/>
          <p:nvPr/>
        </p:nvSpPr>
        <p:spPr>
          <a:xfrm>
            <a:off x="133200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1476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Line 17"/>
          <p:cNvSpPr/>
          <p:nvPr/>
        </p:nvSpPr>
        <p:spPr>
          <a:xfrm>
            <a:off x="1692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Line 18"/>
          <p:cNvSpPr/>
          <p:nvPr/>
        </p:nvSpPr>
        <p:spPr>
          <a:xfrm>
            <a:off x="4068720" y="3065400"/>
            <a:ext cx="863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4" name="Group 19"/>
          <p:cNvGrpSpPr/>
          <p:nvPr/>
        </p:nvGrpSpPr>
        <p:grpSpPr>
          <a:xfrm>
            <a:off x="6551640" y="4165560"/>
            <a:ext cx="2484000" cy="776160"/>
            <a:chOff x="6551640" y="4165560"/>
            <a:chExt cx="2484000" cy="776160"/>
          </a:xfrm>
        </p:grpSpPr>
        <p:sp>
          <p:nvSpPr>
            <p:cNvPr id="615" name="AutoShape 20"/>
            <p:cNvSpPr/>
            <p:nvPr/>
          </p:nvSpPr>
          <p:spPr>
            <a:xfrm>
              <a:off x="6551640" y="4165560"/>
              <a:ext cx="2484000" cy="77616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7141320" y="4325400"/>
              <a:ext cx="11898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lphab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+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7" name="Line 22"/>
          <p:cNvSpPr/>
          <p:nvPr/>
        </p:nvSpPr>
        <p:spPr>
          <a:xfrm>
            <a:off x="2808360" y="3860640"/>
            <a:ext cx="216000" cy="360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2922120" y="386064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Bin(6)=110, Wheeler’s cod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Line 24"/>
          <p:cNvSpPr/>
          <p:nvPr/>
        </p:nvSpPr>
        <p:spPr>
          <a:xfrm>
            <a:off x="4284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Line 25"/>
          <p:cNvSpPr/>
          <p:nvPr/>
        </p:nvSpPr>
        <p:spPr>
          <a:xfrm>
            <a:off x="4500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You find this in your Linux distribution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3" name="Picture 1" descr="C:\Users\ferragin\Desktop\Immagine1.png"/>
          <p:cNvPicPr/>
          <p:nvPr/>
        </p:nvPicPr>
        <p:blipFill>
          <a:blip r:embed="rId1"/>
          <a:stretch/>
        </p:blipFill>
        <p:spPr>
          <a:xfrm>
            <a:off x="142920" y="1643040"/>
            <a:ext cx="8771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626" name="Immagine 3" descr=""/>
          <p:cNvPicPr/>
          <p:nvPr/>
        </p:nvPicPr>
        <p:blipFill>
          <a:blip r:embed="rId2"/>
          <a:srcRect l="1173" t="11721" r="647" b="19384"/>
          <a:stretch/>
        </p:blipFill>
        <p:spPr>
          <a:xfrm>
            <a:off x="0" y="71280"/>
            <a:ext cx="91044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o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lexicographic order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Similarity &amp;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7"/>
          <p:cNvGrpSpPr/>
          <p:nvPr/>
        </p:nvGrpSpPr>
        <p:grpSpPr>
          <a:xfrm>
            <a:off x="1805040" y="3382920"/>
            <a:ext cx="7338960" cy="1054080"/>
            <a:chOff x="1805040" y="3382920"/>
            <a:chExt cx="7338960" cy="1054080"/>
          </a:xfrm>
        </p:grpSpPr>
        <p:pic>
          <p:nvPicPr>
            <p:cNvPr id="147" name="Picture 6" descr=""/>
            <p:cNvPicPr/>
            <p:nvPr/>
          </p:nvPicPr>
          <p:blipFill>
            <a:blip r:embed="rId1"/>
            <a:srcRect l="0" t="0" r="0" b="32384"/>
            <a:stretch/>
          </p:blipFill>
          <p:spPr>
            <a:xfrm>
              <a:off x="1805040" y="3382920"/>
              <a:ext cx="7338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ntervals and Residu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rcRect l="0" t="0" r="0" b="34870"/>
          <a:stretch/>
        </p:blipFill>
        <p:spPr>
          <a:xfrm>
            <a:off x="2771640" y="1557360"/>
            <a:ext cx="6193080" cy="1150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6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157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159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0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6156360" y="1557360"/>
            <a:ext cx="2808360" cy="12034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364000" y="3392640"/>
            <a:ext cx="3780000" cy="104436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165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167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8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169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171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2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01T08:54:38Z</dcterms:modified>
  <cp:revision>1203</cp:revision>
  <dc:subject/>
  <dc:title>Web Algorithmics</dc:title>
</cp:coreProperties>
</file>